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BD8A-4B7C-4F21-A808-7BCB96DD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28C-F456-470C-A581-68299303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73F-2849-4955-A911-41BBA874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D46-8A90-4B23-9BE5-C1C23FA4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558C-9811-4330-B1EB-1078E268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A02C-9C7A-4C57-B5AA-15CE9967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8B2C-BE1B-4801-BAE0-1C4733EB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E9CC-7082-4BCC-9B93-18216FBB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3243-1969-4F6C-96D6-AB05DC00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7A3B-548B-475D-85F3-750E8131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8025-1627-4695-8592-4D944063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9AFF-0A1C-4726-91B2-CD60BDF5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414C-A37B-456E-BB59-871FC720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7F98-ED77-47C4-8055-AEB9D828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BCD5-E432-4166-83F2-95EE0FD1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B99C-B7B7-4444-AADA-3D2AC0FF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B913-36B9-4C77-A5F3-135A1E6F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723F-15DF-4B91-A500-88030F7D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8FFA-3A18-4B6B-BC4B-3726ED31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384-15D9-4325-B1E7-B9ED2E21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4D2-88E1-4D26-B9EC-313ADF73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6790-5E71-4ACA-AB66-D16FB1A5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C67-0E1D-4E40-B5A8-54639BB3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FC0-5262-4B01-A73D-C5EF4953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A811-2EC4-4B49-9B51-9EBCFFB078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43AF-EBA4-4E91-9361-5D57558648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редные привычки и и х предупрежд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Picture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3311640" cy="3657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3456000" cy="3860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3"/>
          <a:stretch/>
        </p:blipFill>
        <p:spPr>
          <a:xfrm>
            <a:off x="2916360" y="332424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амая малая капля алкоголя для беременной женщины может стать причиной патологий и уродств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2" descr="http://urodaizdrowie.pl/wp-content/uploads/2010/06/Preganant-woman-with-wine-001x.jpg"/>
          <p:cNvPicPr/>
          <p:nvPr/>
        </p:nvPicPr>
        <p:blipFill>
          <a:blip r:embed="rId1"/>
          <a:stretch/>
        </p:blipFill>
        <p:spPr>
          <a:xfrm>
            <a:off x="468360" y="1989000"/>
            <a:ext cx="7278480" cy="4160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im4-tub-ru.yandex.net/i?id=607310248-25-72&amp;n=21"/>
          <p:cNvPicPr/>
          <p:nvPr/>
        </p:nvPicPr>
        <p:blipFill>
          <a:blip r:embed="rId2"/>
          <a:stretch/>
        </p:blipFill>
        <p:spPr>
          <a:xfrm>
            <a:off x="7086600" y="3352680"/>
            <a:ext cx="16858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рком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ркомания – болезненное непреодолимое пристрастие к наркотическим средствам, вызывающим нарушение психики, галлюцинации, бред, разрушение всех органов и систем человеческого организма, преждевременная смер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5" descr="images (5)"/>
          <p:cNvPicPr/>
          <p:nvPr/>
        </p:nvPicPr>
        <p:blipFill>
          <a:blip r:embed="rId1"/>
          <a:stretch/>
        </p:blipFill>
        <p:spPr>
          <a:xfrm>
            <a:off x="5148360" y="4869000"/>
            <a:ext cx="33112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Мотивы толкающие к наркотическому дурману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Любопытство и подражан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Желание повторить испытанные ощущения одурманивания приводят к рабской зависимости от наркотика. Постепенно все имевшиеся ранее у подростка интересы и увлечения пропадают. Появляются слабость, бессонница, потеря аппетита, исхуд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ркоти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3. &amp;Ncy;&amp;acy;&amp;rcy;&amp;kcy;&amp;ocy;&amp;tcy;&amp;icy;&amp;kcy;&amp;icy; &amp;yacy;&amp;vcy;&amp;lcy;&amp;yacy;&amp;yucy;&amp;tcy;&amp;scy;&amp;yacy; &amp;pcy;&amp;rcy;&amp;iecy;&amp;pcy;&amp;yacy;&amp;tcy;&amp;scy;&amp;tcy;&amp;vcy;&amp;icy;&amp;iecy;&amp;mcy; &amp;kcy; &amp;dcy;&amp;ucy;&amp;khcy;&amp;ocy;&amp;vcy;&amp;ncy;&amp;ocy;&amp;mcy;&amp;ucy; &amp;rcy;&amp;acy;&amp;zcy;&amp;vcy;&amp;icy;&amp;tcy;&amp;icy;&amp;yucy;."/>
          <p:cNvPicPr/>
          <p:nvPr/>
        </p:nvPicPr>
        <p:blipFill>
          <a:blip r:embed="rId1"/>
          <a:stretch/>
        </p:blipFill>
        <p:spPr>
          <a:xfrm>
            <a:off x="250920" y="18446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4. &amp;Ncy;&amp;acy;&amp;rcy;&amp;kcy;&amp;ocy;&amp;tcy;&amp;icy;&amp;kcy;&amp;icy; &amp;tcy;&amp;ocy;&amp;lcy;&amp;kcy;&amp;acy;&amp;yucy;&amp;tcy; &amp;lcy;&amp;yucy;&amp;dcy;&amp;iecy;&amp;jcy; &amp;ncy;&amp;acy; &amp;kcy;&amp;rcy;&amp;acy;&amp;zhcy;&amp;icy; &amp;icy; &amp;ncy;&amp;acy;&amp;scy;&amp;icy;&amp;lcy;&amp;icy;&amp;yacy;."/>
          <p:cNvPicPr/>
          <p:nvPr/>
        </p:nvPicPr>
        <p:blipFill>
          <a:blip r:embed="rId2"/>
          <a:stretch/>
        </p:blipFill>
        <p:spPr>
          <a:xfrm>
            <a:off x="2916360" y="19162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2. &amp;Ncy;&amp;acy;&amp;rcy;&amp;kcy;&amp;ocy;&amp;tcy;&amp;icy;&amp;kcy;&amp;icy; &amp;chcy;&amp;acy;&amp;scy;&amp;tcy;&amp;ocy; &amp;pcy;&amp;rcy;&amp;icy;&amp;vcy;&amp;ocy;&amp;dcy;&amp;yacy;&amp;tcy; &amp;kcy; &amp;ncy;&amp;iecy;&amp;scy;&amp;chcy;&amp;acy;&amp;scy;&amp;tcy;&amp;ncy;&amp;ycy;&amp;mcy; &amp;scy;&amp;lcy;&amp;ucy;&amp;chcy;&amp;acy;&amp;yacy;&amp;mcy;."/>
          <p:cNvPicPr/>
          <p:nvPr/>
        </p:nvPicPr>
        <p:blipFill>
          <a:blip r:embed="rId3"/>
          <a:stretch/>
        </p:blipFill>
        <p:spPr>
          <a:xfrm>
            <a:off x="6012000" y="155736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1. &amp;Ncy;&amp;acy;&amp;rcy;&amp;kcy;&amp;ocy;&amp;tcy;&amp;icy;&amp;kcy;&amp;icy; &amp;ncy;&amp;iecy; &amp;dcy;&amp;acy;&amp;yucy;&amp;tcy; &amp;chcy;&amp;iecy;&amp;lcy;&amp;ocy;&amp;vcy;&amp;iecy;&amp;kcy;&amp;ucy; &amp;mcy;&amp;ycy;&amp;scy;&amp;lcy;&amp;icy;&amp;tcy;&amp;softcy; &amp;scy;&amp;acy;&amp;mcy;&amp;ocy;&amp;scy;&amp;tcy;&amp;ocy;&amp;yacy;- &amp;tcy;&amp;iecy;&amp;lcy;&amp;softcy;&amp;ncy;&amp;ocy;."/>
          <p:cNvPicPr/>
          <p:nvPr/>
        </p:nvPicPr>
        <p:blipFill>
          <a:blip r:embed="rId4"/>
          <a:stretch/>
        </p:blipFill>
        <p:spPr>
          <a:xfrm>
            <a:off x="6012000" y="3933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6. &amp;Ncy;&amp;acy;&amp;rcy;&amp;kcy;&amp;ocy;&amp;tcy;&amp;icy;&amp;kcy;&amp;icy; &amp;yacy;&amp;vcy;&amp;lcy;&amp;yacy;&amp;yucy;&amp;tcy;&amp;scy;&amp;yacy; &amp;icy;&amp;scy;&amp;tcy;&amp;ocy;&amp;chcy;&amp;ncy;&amp;icy;&amp;kcy;&amp;ocy;&amp;mcy; &amp;mcy;&amp;ncy;&amp;ocy;&amp;gcy;&amp;icy;&amp;khcy; &amp;zcy;&amp;acy;&amp;bcy;&amp;ocy;&amp;lcy;&amp;iecy;&amp;vcy;&amp;acy;&amp;ncy;&amp;icy;&amp;jcy;."/>
          <p:cNvPicPr/>
          <p:nvPr/>
        </p:nvPicPr>
        <p:blipFill>
          <a:blip r:embed="rId5"/>
          <a:stretch/>
        </p:blipFill>
        <p:spPr>
          <a:xfrm>
            <a:off x="0" y="4005360"/>
            <a:ext cx="2857680" cy="223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9. &amp;Ncy;&amp;acy;&amp;rcy;&amp;kcy;&amp;ocy;&amp;tcy;&amp;icy;&amp;kcy;&amp;icy; &amp;pcy;&amp;rcy;&amp;icy;&amp;vcy;&amp;ocy;&amp;dcy;&amp;yacy;&amp;tcy; &amp;kcy; &amp;ucy;&amp;rcy;&amp;ocy;&amp;dcy;&amp;scy;&amp;tcy;&amp;vcy;&amp;acy;&amp;mcy; &amp;ucy; &amp;dcy;&amp;iecy;&amp;tcy;&amp;iecy;&amp;jcy;."/>
          <p:cNvPicPr/>
          <p:nvPr/>
        </p:nvPicPr>
        <p:blipFill>
          <a:blip r:embed="rId6"/>
          <a:stretch/>
        </p:blipFill>
        <p:spPr>
          <a:xfrm>
            <a:off x="2987640" y="400536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абакокур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4fca"/>
                </a:solidFill>
                <a:latin typeface="Tahoma"/>
              </a:rPr>
              <a:t>Курение — вдыхание дыма препаратов, преимущественно растительного происхождения, тлеющих в потоке вдыхаемого воздуха, с целью насыщения организма содержащимися в них активными веществами путём их возгонки и последующего всасывания в лёгких и дыхательных путях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абакокур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4920" y="100656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з чего состоит сигаре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78080" y="2384280"/>
            <a:ext cx="55818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редная привычка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это систематическая деятельность человека, приносящая вред его собственному здоровью и здоровью окружающ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лкоголиз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Picture 5" descr="0022"/>
          <p:cNvPicPr/>
          <p:nvPr/>
        </p:nvPicPr>
        <p:blipFill>
          <a:blip r:embed="rId1"/>
          <a:stretch/>
        </p:blipFill>
        <p:spPr>
          <a:xfrm>
            <a:off x="6286680" y="304812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26920" y="2421000"/>
            <a:ext cx="45720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лкоголизм - наркотическая зависимость, характеризующаяся болезненным пристрастием к употреблению алкогольных напитков( психическая и физическая зависимость) и алкогольным поражением внутренних орг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коголь - это наркотическое вещество, которое вначале вызывает возбуждение, а затем угнетение нервной систем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260280"/>
            <a:ext cx="54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Действие алкоголя на орган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лкоголь разрушает моз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Picture 12" descr="6bc32fd3ca788f8c2df82107"/>
          <p:cNvPicPr/>
          <p:nvPr/>
        </p:nvPicPr>
        <p:blipFill>
          <a:blip r:embed="rId1"/>
          <a:stretch/>
        </p:blipFill>
        <p:spPr>
          <a:xfrm>
            <a:off x="1763640" y="1773360"/>
            <a:ext cx="5545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18" descr="img8"/>
          <p:cNvPicPr/>
          <p:nvPr/>
        </p:nvPicPr>
        <p:blipFill>
          <a:blip r:embed="rId1"/>
          <a:stretch/>
        </p:blipFill>
        <p:spPr>
          <a:xfrm>
            <a:off x="1187280" y="189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лкоголь разрушает психик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Picture 2" descr="http://cs10147.vkontakte.ru/u35517411/118096624/x_4ee5ad3a.jpg"/>
          <p:cNvPicPr/>
          <p:nvPr/>
        </p:nvPicPr>
        <p:blipFill>
          <a:blip r:embed="rId1"/>
          <a:stretch/>
        </p:blipFill>
        <p:spPr>
          <a:xfrm>
            <a:off x="2192400" y="2017800"/>
            <a:ext cx="5753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лкоголь разрушает печен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20" descr="Livers"/>
          <p:cNvPicPr/>
          <p:nvPr/>
        </p:nvPicPr>
        <p:blipFill>
          <a:blip r:embed="rId1"/>
          <a:stretch/>
        </p:blipFill>
        <p:spPr>
          <a:xfrm>
            <a:off x="1116000" y="2565360"/>
            <a:ext cx="66247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лкоголь приводит к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ку желудка, пищевода и кишечн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нсультам, инфаркта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лаблению или потери з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7:47:54Z</dcterms:created>
  <dc:creator>user</dc:creator>
  <dc:description/>
  <dc:language>en-US</dc:language>
  <cp:lastModifiedBy>user</cp:lastModifiedBy>
  <dcterms:modified xsi:type="dcterms:W3CDTF">2013-04-23T08:43:01Z</dcterms:modified>
  <cp:revision>13</cp:revision>
  <dc:subject/>
  <dc:title>Слайд 1</dc:title>
</cp:coreProperties>
</file>